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B88-79C1-4163-AEDF-ABE41F6A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264-BAB9-4C52-9064-2C67E9DF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693-6ABB-440A-9977-6AD1989B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E78-9ABA-4D80-A9F8-6284041B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9C4-97DE-4C84-BE8B-37CDE3E8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14F-C8DE-44F0-9BEB-1AE9B90E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A76-4179-4380-984A-6B43B387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C26-BFB7-4E02-8117-50E5153C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CA7-C81B-4C98-B35F-341D5AF9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EF2-1848-452D-872B-806E72E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5B1-3EF2-4481-A6EA-7BAB4D9E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ED4-3024-4DBD-9CD5-F99083C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AD51-9C65-4BB2-9612-6DD46B7A3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States Constitu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; Topics 1-7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3,4,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2800" y="376200"/>
            <a:ext cx="74959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ngressional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aker of the House (Ma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ooses what to talk ab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nt Pro Temp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ice President’s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st take bills i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ngressional Commit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ing Commit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lect/J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nio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Powers of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pressed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mplied Po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mp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Block 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pose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880" y="304920"/>
            <a:ext cx="4773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Limits on Congression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rit of Habeas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ills of Atta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 Post Facto La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Qualifications for Ho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25 y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7 yr U.S.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ve in state to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Qualifications for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30 y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9 yr U.S.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ve in state to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$165,200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ranking Privi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204480" y="227160"/>
            <a:ext cx="92055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5: How a Bill becomes a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($ in Hou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Re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Bill-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itizens, Interest Groups, Whit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Given a Title &amp; Number (S.1, H.R.1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ommitte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anding Committee (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Pass, Change, Replace, Ignore,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Argue over good/bad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House; Priority, Senate;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Amendments must be relevant in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llibuster, Clo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357120"/>
            <a:ext cx="741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ice, Standing, Roll-Call,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dentical versions must be pa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either house rejects, bill 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esidentia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eto (2/3 Majority to over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cket 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317160" y="395280"/>
            <a:ext cx="8867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6: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 Branch (THEY ENFORCE THE LA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f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at least 35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ative-born American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Resident of the U.S. for at least 14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ore experience is necessary,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President of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African American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woman candidate for V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Jewish candidate for V.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4680" y="366840"/>
            <a:ext cx="687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lec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very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ctoral Colleg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t Popular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Electors (#House +#Sen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opul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270/5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 majority goes to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2n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C Movie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alary &amp;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400,000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 for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hite House, 80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mp David, Air Forc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160" y="380880"/>
            <a:ext cx="685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Vic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lec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ame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jor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s over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tes in case of tie (ARTICL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esidenti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25th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ic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aker of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nt Pro Temp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ttorne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the Interior.. Page 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4960" y="262080"/>
            <a:ext cx="7645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Presidenti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eto Legislation (B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ll Congressional Special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ander in Ch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eign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ake Tre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ppoint Judges, Ambass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ardon or Repr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Presidential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hief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ecutiv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hief Dipl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oreign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ander in Ch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 charge of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clare war with Congressional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ead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88400" y="184320"/>
            <a:ext cx="535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Presidential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cretary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cretary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cretary of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ttorne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age 2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Executive Office of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500 people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10-12 personal ad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83680" y="341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20640" y="96840"/>
            <a:ext cx="795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7: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? THEY INTERPRET THE LAWS (Article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Equ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Settle civil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Decide innocence or g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Federal Cour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U.S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District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State Court Syste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uperior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District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2920" y="58680"/>
            <a:ext cx="84261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: Structure of the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Necessary &amp; Proper Clause (E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I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II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V-VII Other issues (IV-Supremacy Cl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-10 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1-27 Oth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2/3 approval to ac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rict v. L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mplied v. Ex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07120" y="338040"/>
            <a:ext cx="6685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Federal Court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sputes b/w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tizens of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 Gov’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oreign Gov’t and tre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miralty and Maritim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.S. Diplom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clusiv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current Jurisd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U.S. Supreme Court has BOTH (Constitu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iginal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619200"/>
            <a:ext cx="5656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deral Cou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eme Courts=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 of Appeals=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Courts=Original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Magis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inions &amp; Prece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dges &amp; Court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 Judges=Appo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5120" y="0"/>
            <a:ext cx="62798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 Members (8 +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ointed &amp; appro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ooses what cases they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p decision-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dici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rbury v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RVE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 only hear cases sent to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ur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ct-June/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ief, Arguments,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1840" y="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51480" y="189000"/>
            <a:ext cx="561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re Dec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ocial Conditions *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mportan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rbury v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e v. W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lessy v. Ferg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own v. Board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inker v. Des Mo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iranda v. Ariz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ideon v. Wainw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wann v. Charlotte-Meckle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te v. 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eart of Atlanta Hotel v.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2800" y="414360"/>
            <a:ext cx="649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Right to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ule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veryone must follow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eparation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ree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hecks &amp;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mite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Federal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tional, State,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98920" y="469800"/>
            <a:ext cx="553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Fede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pressed/Enum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age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uprem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88200" y="357120"/>
            <a:ext cx="10103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2 Topic II: Bill of Rights (Chapter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irst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ligion, Assembly, Press, Petition,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ens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John Peter Z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lander, Libel,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2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Bear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Quartering of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arch &amp;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u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lf Incr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uble Jeop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minen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5880" y="133200"/>
            <a:ext cx="702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Rights of the Ac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Rights in civil cases; Jury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Cruel &amp; Unusual Punishment; B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Rights reserved to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Rights reserved to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ummary/Main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8240" y="338040"/>
            <a:ext cx="5162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3: Amendments 1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11. Limits on suits again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Presidential Ele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ivil War Amend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Abolishe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Citizenship &amp; Equ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African-America righ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Progressive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Election of Senators b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Women’s righ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38160" y="674640"/>
            <a:ext cx="597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20. Lame Duck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. Repeal 18th;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 Presidents limited to two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. Washington D.C. gets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 Elimination of the poll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 Presidenti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. 18 y.o. vo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. Congressional salary pay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Civil Rights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13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iscrimination/Segre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ffirmative Action/Racial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. 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11360" y="376200"/>
            <a:ext cx="74419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4: Three Branches of Government (Chap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tive Branch (THEY MAKE THE LAW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ica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on Population;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35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rryma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on Eq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wo year periods (07-09; 110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jority v. Minority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rty W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0:31:44Z</dcterms:created>
  <dc:creator>Chatham Central</dc:creator>
  <dc:description/>
  <dc:language>en-US</dc:language>
  <cp:lastModifiedBy>Chatham County</cp:lastModifiedBy>
  <cp:lastPrinted>2009-09-28T12:12:27Z</cp:lastPrinted>
  <dcterms:modified xsi:type="dcterms:W3CDTF">2009-11-16T16:00:06Z</dcterms:modified>
  <cp:revision>7</cp:revision>
  <dc:subject/>
  <dc:title>United States Constitution Goal 2; Topics 1-7 Chapter 3,4,6,7</dc:title>
</cp:coreProperties>
</file>